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735-C682-4F83-9FBA-6469B94BB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A405-21CB-462B-AE6E-9EED98A3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941-A4D2-45C6-8261-19036C486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490-A4A0-4238-B007-BD887C430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C7BB-6B15-46E1-9102-C3624841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B927-869C-47B3-A381-80E87687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DE14-CF51-486B-84B3-F3A4A98D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2826-7091-41C3-BA59-F08B4548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1FA5-FCA2-4065-870D-B69234C5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4D0C-8C94-4B09-9489-7D504881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4775-FE02-458E-9A1B-AD27D331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84BD-5334-4412-8E2F-E6E62C36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DC85-4559-49D7-9CB0-CCDB155C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4901-837F-46CB-9E85-0861B83A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A39A-D384-44BD-AFEA-2ADBC778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A5D0-8714-4D25-9191-FFD6CEBD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305B-4321-494B-92EE-73E9B46E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C23B-DAEA-4FC5-A66F-20A54CD6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72F9-D9D8-4EAE-B6A5-86E9B59D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8A61-2F51-4129-8D62-DD5BEFBA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2CF-4296-4D87-BC5A-EA51E88A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8EB-7C67-40ED-BCE0-6C6A3EDE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94A-C651-4CBB-930D-4D5B4CE1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739-B5EC-48A6-A4CB-AE6536A2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8BBB-1C75-4FC5-9445-93EF0F1A2DBC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73EC-8765-4BD1-AE86-F44B974C4FC7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ARKETING ALAPISMERETE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2637000"/>
            <a:ext cx="7010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9. október 20. és november 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34178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VEVŐÉRTÉK FOGAL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 a megvásárolt termék vagy szolgáltatás (a) és az érte nyújtott ellenszolgáltatás (b) különbs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ék értéke, szolgáltatás értéke, személyzet/kiszolgálás értéke, imázs érték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öltség, időráfordítás, energia ráfordítás, pszichikai ráfordí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MARKETING HÁLÓZATB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szerzés és ellá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yár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osz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ing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értékesíté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olgálta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GY NÉPSZERŰ TÉMA A 21.SZÁZADBAN: 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FOGYASZTÓI MAGATART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öbbféle modellt alkottak vizsgálatá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ásárlási szándék: a vevő „fekete doboza” (az individuumot rejti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merhető belő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vevő egyéni jellemző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döntési folyamat eleme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ARKETINGTÍPUSOK A VEVŐ SZEMSZÖGÉBŐL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áció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ltur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ion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1557360"/>
            <a:ext cx="1800360" cy="160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867280" y="3141720"/>
            <a:ext cx="2590920" cy="1722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940360" y="4797360"/>
            <a:ext cx="25923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I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lati tevékenység orientációja a versenyképesség érdekéb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t és a piac kapcsolatán alapu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eredményességének feltétele, hogy az adott vállalkozá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egismerj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ersenytársaknál jobban kielégítse a vevők szükséglete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N ALAPUL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vők szükséglete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élpia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zervezeti koordináci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yereségessé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LYEK A MARKETING FŐBB ESZKÖZEI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DUCT (termék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ICE (ár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LACE (értékesítés helye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MOTION (kommunikáció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EGY SIKERES MARKETINGFOLYAMAT A 19. SZÁZADBÓL: </a:t>
            </a:r>
            <a:br>
              <a:rPr sz="3400"/>
            </a:b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Isaac Singer és a varrógé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3363840" cy="4724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00720" y="2060640"/>
            <a:ext cx="38271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243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újítása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lábbal hajtott pedá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z anyagot varrás közben leszorító tal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az üzlettárs, Edward Clark ötlet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ingyenes „reklámújság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régi gépek beszámít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női vásárlóközönség megcélz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56: 2564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0: 100000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7: a </a:t>
            </a: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Corporation</a:t>
            </a: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ilág els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ultinacionális c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(Singer vagyona halálakor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5 millió dollá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10360" y="1844640"/>
            <a:ext cx="293364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nry Ford, a Ford T tervezőj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inden vevő megkaphatja a kedvenc színű autóját, feltéve, ha az a fekete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63640" y="3164040"/>
            <a:ext cx="45370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 TÁRSADALMI FELELŐSSÉG KÉRDÉ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zabályozás hatá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tikai befoly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tikai befolyásol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senyből adódó hatás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M EGYSZERŰEN A SZÜKSÉGLETEK KIELÉGÍTÉSE ÉS A PROFIT MAXIMALIZÁLÁSA A CÉL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4:09:15Z</dcterms:created>
  <dc:creator>MS-USER</dc:creator>
  <dc:description/>
  <dc:language>en-US</dc:language>
  <cp:lastModifiedBy>Jakab</cp:lastModifiedBy>
  <dcterms:modified xsi:type="dcterms:W3CDTF">2010-07-05T19:12:47Z</dcterms:modified>
  <cp:revision>4</cp:revision>
  <dc:subject/>
  <dc:title>MARKETING ALAPISMERETEK</dc:title>
</cp:coreProperties>
</file>