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D8243-E754-4316-B172-DCBFA61C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BAD0-92CE-4154-B91B-C89DF98A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15CF-97C6-46CA-9257-2BEE949C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8243-2922-4AFD-91B0-59DD3211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01CD-BE15-4CE0-AF75-0DE66CBD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874E-82EC-4B2B-B043-7D34FFBC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491D-E8F9-4FA6-8AEC-37211749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2518-DC34-4241-8288-E22F9D7E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2F2D-15F7-4010-9622-49E15E39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D9BA-C7E5-4A6F-8CEB-F148A79C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92A4-946D-414A-96A2-A7B6D4FB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8A89-9642-4C5C-9052-2265FE9D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22E5-4FE0-4448-92AD-715F1DB3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86ED-DA6F-4234-97DE-21487B73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8625-37B0-49A6-BAA2-E99B9D93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4B87-224B-4799-8450-BB3A7CC8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4EA8-270F-46FA-8F5C-6B9D0C28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3F830-9205-44A1-97D8-8010C860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1C517-E42E-4DC6-A647-8CBA7226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5C51D-B24C-4A7D-BBB5-ACC3DA79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278D-7187-495A-98E1-1B305459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8E683-9E79-434E-922F-06D06B63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87819-34EF-4C43-8F92-0AA67333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E6FA0-BDF1-4552-972F-1BAA6E66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5EC5-B3C9-4BFA-A187-5279E85208B2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1886-0417-4DFE-8055-1E70AF1B624B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jfifo.uw.hu/vendegl.doc" TargetMode="External"/><Relationship Id="rId2" Type="http://schemas.openxmlformats.org/officeDocument/2006/relationships/hyperlink" Target="http://vallalkozokedv.webkatalogus.com/v_formak.html" TargetMode="External"/><Relationship Id="rId3" Type="http://schemas.openxmlformats.org/officeDocument/2006/relationships/hyperlink" Target="http://vallalkozokedv.webkatalogus.com/v_formak.html" TargetMode="Externa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gyéni vállalkozás: </a:t>
            </a:r>
            <a:br>
              <a:rPr sz="4400"/>
            </a:b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hagyományos étterem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03884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Terjeszkedési lehető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a főváros különböző belső kerületeibe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vidéki nagyvárosokb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3852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8c1ba"/>
                </a:solidFill>
                <a:latin typeface="Garamond"/>
              </a:rPr>
              <a:t>Irodalomjegyzé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hjfifo.uw.hu/vendegl.doc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vallalkozokedv.webkatalogus.com/v_formak.html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5229360"/>
            <a:ext cx="40323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Készítette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Palotai Tíme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Barakka Patríci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.11.01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Szükséges dolgozó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üzletvezető (vendéglátó-ipari végzettséggel)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nyvelő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pincé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szakács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Kft. Indítási költségei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Törzstőke: minimum 3.000.000,- Ft, ennek minimum a 30 %-nak, de  legalább 1.000.000,- forintnak készpénznek kell lennie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Egy tag törzsbetéte 100.000,- Ft-nál kevesebb nem lehet, s a forintban kifejezendő törzsbetét tízezerrel maradéktalanul osztható legyen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Közzétételi díj 2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Illeték 8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láírási címpéldány min, 5 db 2.000,- Ft/db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Ügyvédi díj: ügyvédtől függő, kb. 100.000,- 120.000 Ft.</a:t>
            </a:r>
            <a:br>
              <a:rPr sz="2000"/>
            </a:b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ngedély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ÁNTSZ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tűzvédelmi hatóságok hozzájárulás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jövedéki engedély alkohol és dohányárur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működé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területi árusítá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Bejelentési kötelezett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szeszes ital forgalmazásának bejelentése a rendőrségen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 zene/műsorszolgáltatás bejelentése a rendőrségen,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z üzlet osztályba sorolás</a:t>
            </a:r>
            <a:r>
              <a:rPr b="0" lang="en-US" sz="2400" spc="-1" strike="noStrike">
                <a:solidFill>
                  <a:srgbClr val="f7f3f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 a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I. osztályba sorolás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elkülönített fogadótér a bejárattó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ndégekkel érintkező dolgozók formaruhát visel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zető és a konyhafőnök szakképzett és 5 év szakmai gyakorlata van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fellépő művészek A típusú igazolvánnyal rendelkez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égfelirat készítése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név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üzlettípus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ulajdonos neve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vállalkozás formája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Arcul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dohányzó és nemdohányzó 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barátságos légkö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ert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c1ba"/>
                </a:solidFill>
                <a:latin typeface="Garamond"/>
              </a:rPr>
              <a:t>Elhelyezkedés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ővárosba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el a központhoz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orgalmas helye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327480" cy="380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8:27:06Z</dcterms:created>
  <dc:creator>Pekár Mihály</dc:creator>
  <dc:description/>
  <dc:language>en-US</dc:language>
  <cp:lastModifiedBy>Jakab</cp:lastModifiedBy>
  <dcterms:modified xsi:type="dcterms:W3CDTF">2010-07-05T21:45:20Z</dcterms:modified>
  <cp:revision>6</cp:revision>
  <dc:subject/>
  <dc:title>Egyéni vállalkozás: hagyományos étterem</dc:title>
</cp:coreProperties>
</file>