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42E9-ED5B-4A65-AFA1-C311923C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E80E-005A-42D7-A615-2110C57C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214E-5017-4CDF-8918-63BC9B41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311C-0793-4DA8-95B8-0011C097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2069-68BD-4EF7-80DD-C0A030B8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9B1B-B2B2-4B65-AAC2-3342B348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0E59-A2FE-4A81-9532-3A2D22AB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075D-D7BA-469D-8CE9-74239F8C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2D4A-E0BE-44AA-A570-BAFCFE0D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75AE-044A-4181-8837-4DC7450F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FDAF-8D3D-4399-B1E5-75BF41CA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3A84-48E1-46AA-B202-6905ED7F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9E87-4EFE-454F-9924-C0631954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E9A8-BF8D-41D5-B041-9DE5AFB6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1E3E-5E95-4266-8CF1-5F1634A7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72B1-1C55-4FC8-8E7E-874372D2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EC8D-1643-4943-AA55-A7EAE583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6FDDA-C121-40ED-B4D6-AFDD19AB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F9A33-BDC8-49AF-AB6F-2F9B7273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CBE7E-191F-411E-BACD-670216FA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BCA2F-AA19-4C7B-98B7-2CC08DD4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9E962-7EA3-41DA-8E8D-EA39E5B9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DC40-E8E7-49BA-8A1B-B0A4BC57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F3CBD-B205-42D0-9CCA-31622F4B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A1FE4-87CC-43F1-BBE3-6749FDF2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FFF91-D97D-46C0-A6AA-7FD755D7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DD279-C47F-42BC-929E-238E8734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B4744-8912-4308-A5A0-2C0B09A8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C4B33-B0C0-416A-B2FE-5887251B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4A213-5340-41B2-9BAF-8ED610EF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F79AC-CD00-4EA5-B0EE-5F1731E8C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BA02D-F714-4561-91E6-782D1B32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3BEAA-4D0E-47E9-A211-FFF1CC78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6755-0F63-4CAA-9DBA-7E844885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CD743-2E81-4566-A111-8F199DD1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FA04D-DD31-4697-91A8-FCBD5873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14B9B-505B-4530-9A6C-A2A45D56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A33B1-6A80-4960-B428-E1A59A92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03FF6-73EA-4993-BEF7-6ACD54AF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D416E-205D-4A15-B586-E740D97B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B2F8D-DD43-4FA8-8BE6-B8EA3C7D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0690E-18D6-490C-AB25-0283D44C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B9FBE-9C32-4A02-B6DA-C2912BE8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FB49D-4391-47CA-8003-56C8169C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1142-63B3-46C9-AEB0-A6F80DB3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72DF4-D7BA-439E-AA5E-A1CC7F2E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93BD2-178A-4041-AEA6-4B646888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525BC-F709-4518-ADB7-CE5287AC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AEC82-97B6-4223-956D-A077CF39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F4B50-AA40-4E26-875E-4B27E7BC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EC885-C4A8-4754-A24E-3277E1AB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ADB33-A897-4F82-A078-10901778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B9A9D-5BF2-4A4A-8575-1092E5B6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EC56D-F01A-43C5-8DCC-5EE00D78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FF3ED-234E-4A47-AC9A-B87A5451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B6A2-2A51-4F66-8043-4FDE637E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CF322-B588-4AA0-9F16-7EF654E4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71CAB-8246-4201-B0BD-069909C7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F63D2-FD5D-46AE-A87C-B639EB8C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D20E8-4D2F-4880-A667-04DDF244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4EA5C-849F-4B7E-AD9E-13DB9519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EAF1E-331F-4588-8165-F2EE1043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EFF00-9752-444D-8511-769CA2D5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7B221-38BC-4708-B26E-A111A4DA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B228D-1A14-4681-8E07-DA5115F4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52A73-DF0B-4142-B20F-5B5371A6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10B6-1AEA-4710-A468-10FB4835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1E9D2-564E-4094-A2A3-4279E878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839AE-4266-4686-B4E7-ED20B84E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00B27-5AF0-474B-AB26-10634C0D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7A450-4BA3-4516-A057-AE8ACA08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A07BD-D004-48FD-907F-3FDDDADD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F76BF-4020-4E78-82B5-52005C0B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E5131-204E-43A7-AEB8-4737222F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DD372-9033-4434-AB48-1C047CEF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73690-C0CC-404D-9591-CC3622A8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03D35-A54A-407C-90A1-217D878B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2AA1-E5A7-4027-B1DB-A97549B1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BF94B-489C-41AF-B64D-967BF401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6DEF8-B52D-47B9-A641-1B3424A9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2AC15-BBFB-4A20-A6DE-9B409C28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0C54D-DE74-4AF3-B0B8-2613F3C1C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0FF31-2BDB-4612-84A8-0B34304D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2DBA5-B5E3-49B8-BB9C-37F42733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46BC2-F4CF-4654-BA81-71CB2C43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1B2DF-18AC-448C-8176-66806970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B2476-CBFE-4C7A-9A83-4DCBA511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A0C58-9370-47A8-A6D4-7FF0AA6C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6982-0802-4B01-9846-A575B8C1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639FC-A210-476A-AE7E-BA3C33B2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87EFB-01A8-4BE5-AC52-C9D9E89E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F8215-E21B-4E12-BD7A-36116FEB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3EE61-5428-488E-B58B-71699AB2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F52DC-87A7-4737-AFF6-E9B48CE4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0B6E4-9C1F-4BB2-BC66-E6C801DE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B15C5-AD1A-453C-A386-AA65C6E3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890D-A028-4794-B963-1CC920328CB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Háromszög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91D3-C21C-4986-88F5-11065185C5A9}" type="slidenum">
              <a:rPr b="0" lang="hu-H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AE35-F05F-4243-AA3D-279A62DF0098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erékszögű háromszög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Háromszög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Egyenes összekötő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Egyenes összekötő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AF43-ACB5-48A2-9086-2D955B57E5DE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306C-0F27-456A-86D2-349D415EBCE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2897-2711-4FA6-B362-81F31513873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99A4-ABB4-4187-B146-0334A0B54F8F}" type="slidenum"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81DC-3411-4109-8163-4176B03F590F}" type="slidenum"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Cím 1" descr=""/>
          <p:cNvPicPr/>
          <p:nvPr/>
        </p:nvPicPr>
        <p:blipFill>
          <a:blip r:embed="rId1"/>
          <a:stretch/>
        </p:blipFill>
        <p:spPr>
          <a:xfrm>
            <a:off x="566640" y="1749600"/>
            <a:ext cx="842508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8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9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romlot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javul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ugyan olyanok marad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pic>
        <p:nvPicPr>
          <p:cNvPr id="373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74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76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77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ig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n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81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82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84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85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álmaimat kívánom megvalósítan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a legjobb képességeimet veszem figyelemb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figyelemmel kísérem a munkaerőpiacot és a szükséges szakemberek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még nem tudom mi lesz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89" name="Tartalom helye 9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0" name="Tartalom helye 10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92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3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Cím 1" descr=""/>
          <p:cNvPicPr/>
          <p:nvPr/>
        </p:nvPicPr>
        <p:blipFill>
          <a:blip r:embed="rId1"/>
          <a:stretch/>
        </p:blipFill>
        <p:spPr>
          <a:xfrm>
            <a:off x="493560" y="-66600"/>
            <a:ext cx="8242560" cy="19256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szülők vélemény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egyéni vélemény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tanáraim vélemény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ismerősöm, családtagom jár(t) ide, s az ő véleménye alapjá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Cím 4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528040" cy="31831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335736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ig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n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Cím 6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97" name="Tartalom helye 16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8" name="Tartalom helye 17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00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1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Cím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19940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235728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csalá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karri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a kettő összhangj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405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6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08" name="Tartalom helye 5" descr=""/>
          <p:cNvPicPr/>
          <p:nvPr/>
        </p:nvPicPr>
        <p:blipFill>
          <a:blip r:embed="rId2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9" name="Tartalom helye 7" descr=""/>
          <p:cNvPicPr/>
          <p:nvPr/>
        </p:nvPicPr>
        <p:blipFill>
          <a:blip r:embed="rId3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Cím 5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5742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614376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207144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álint Zsóf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Fehér Jud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Tátrai Kitt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Vas Ver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12.B osztályos tanuló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2009. November 16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49" name="Tartalom helye 7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0" name="Tartalom helye 8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52" name="Tartalom helye 9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3" name="Tartalom helye 8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431200" cy="15476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körülbelül ugyananny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sokkal több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kevesebb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Cím 1" descr=""/>
          <p:cNvPicPr/>
          <p:nvPr/>
        </p:nvPicPr>
        <p:blipFill>
          <a:blip r:embed="rId1"/>
          <a:stretch/>
        </p:blipFill>
        <p:spPr>
          <a:xfrm>
            <a:off x="396720" y="-85680"/>
            <a:ext cx="8485200" cy="1927080"/>
          </a:xfrm>
          <a:prstGeom prst="rect">
            <a:avLst/>
          </a:prstGeom>
          <a:ln w="0">
            <a:noFill/>
          </a:ln>
        </p:spPr>
      </p:pic>
      <p:pic>
        <p:nvPicPr>
          <p:cNvPr id="357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8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0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1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hogy jó jegyet kapj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hogy minél műveltebb legy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hogy másoknak megfelelj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hogy folytathassam a tanulást valamilyen felsőoktatási intézményb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ím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65" name="Tartalom helye 6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6" name="Tartalom helye 7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5:08:36Z</dcterms:created>
  <dc:creator>Agora Kft.</dc:creator>
  <dc:description/>
  <dc:language>en-US</dc:language>
  <cp:lastModifiedBy>Jakab</cp:lastModifiedBy>
  <dcterms:modified xsi:type="dcterms:W3CDTF">2010-07-05T21:42:34Z</dcterms:modified>
  <cp:revision>64</cp:revision>
  <dc:subject/>
  <dc:title>Jövőkép és önismeret a 15-16 éves Apáczais diákoknál</dc:title>
</cp:coreProperties>
</file>